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078-75A4-4128-8ED7-1C13B7DD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E4A-3808-4708-A877-40C46686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5B5-F204-478D-8C8D-15770A51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DAF-DC7D-4DC8-A19F-56438F96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2DC3-365C-4C9A-BE35-112C93E1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D339-920B-4A69-AE40-C476890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D49-99D4-4487-8661-AE201F35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139-4280-4DA7-BE4A-50C1C3E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188B-D123-4768-B6A6-5FA6521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5FB9-C1BB-42A2-8BDE-5D742A30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9246-77E1-45DE-9698-5FF41D0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43A-39C0-4ED7-A596-F357E04B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2A29-783E-4B8E-82D4-9541733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5F2-21CE-4E3E-9336-4DBBE311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9294-C7E2-4318-ABB7-1B36882C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E7D0-C8F0-4CC5-96A0-6D063A0D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0063-9F47-4DF4-9434-6784C4D7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E1EF-7847-44DB-BB72-0AE632DD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54CC-627D-4A81-89AA-671A4FA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DFDF-F209-46A1-9032-4F04297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6C5A-9FE7-43F9-BDBD-88581219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59B9-6104-418E-BF51-276B6AFF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CC3-D0A1-4343-B67F-D1867A75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BD6D-D773-42E8-A072-33E411FD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F011-EAE5-42E0-B6E8-E905E93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5E17-AAD6-40B5-A7BA-378C0FA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002C-D306-4C44-8F0C-3A6C0A8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30E0-A33A-4468-9DE3-62C7193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73CB-A7BB-4B45-BEE0-1788C249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6BE3-8DE4-4255-B638-FD98E4AF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5E84-8D69-4A8D-908D-E4B11E00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F616-C633-45D3-AD7D-84BFAA28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796BF-DB9A-4133-93B1-C058B77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162-1B99-4686-83E8-2D6DDA5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6598-584F-4541-9B64-3E23AA17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8C45-3578-4A2E-871A-8130966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2452-5767-4A45-B791-FF3389F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83A3-68E4-4BE1-9CA5-354E2FA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9C8E-FF5D-4B82-B45F-D00018E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38CF-0D8F-4569-84D0-06D65188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77B1-2C48-4605-A86F-758793D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63C49-C6C9-452F-9FE2-E8913E72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99A1-BD1F-4F22-A349-F63E5607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DF7D-D42F-4FD8-9E58-C0B486C9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34E-E1E4-40F5-ABCD-A2337FEF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B9AD5-CBB7-44E8-8625-C460DA62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28A6-35A8-4410-93B7-C806F7B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D1CE-418A-4AFE-9A3C-6619445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2E9B-2EA6-453C-978E-7B0A7A9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FD088-5FC8-4A43-887E-561B8EEE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44A0-AC4E-4819-B238-B72E680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E740-8735-4948-9733-9901A58D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B9D0-BCA7-48AF-A010-79FB612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17C0-18FD-4BDD-B263-42DFB674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3BF8-FB91-4D64-AA8C-89A047AF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0CA-39A4-4E88-B757-4FB15BFF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BA8B-7C72-4B3B-AC51-7E9ED1E0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BCD1-85E5-46DB-BCD4-BADDE293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021A-6D15-4054-AAE6-01125C4D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F946-C919-426B-AF90-ADB1E76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AEF80-E40A-42F1-8FDC-4735198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D02AB-663C-40CB-A9AC-322ACDFD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47664-1E29-4D87-BB72-1C7EAADF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E1CA7-2088-4604-B13C-99A6D4C4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3662-6825-4237-80FA-66C806B4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1B5D-5CA5-49BE-A3A1-3A85BA6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61B-1620-459B-A77F-22C31FB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A1817-2211-48E5-94BA-431A9C8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62097-EE50-487A-9620-3B855CE5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52AC8-834E-4865-B7EF-DE55DB2F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B52CD-60A0-4F60-BBCD-6F598A93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F9A5-915F-40A5-99AB-37B43F19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45CBC-81EB-441E-A0EC-D4811C06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AF5E-1489-4E08-A441-CAA100C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7320-7632-437F-9A20-F8250B25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1CC5-284A-4E5F-AB7B-0F073D76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4C6D-8BC1-4DFE-A17D-DB59221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E60-A4BC-40B3-882A-26EEEB8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5572D-5BBB-4C30-A0E2-931691D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8E770-E9AB-427E-9954-92BDC73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18D1-523B-45F5-9AA9-D781573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C7C4B-6E25-414E-B064-F776288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68506-187B-4C61-AF60-E208FAA3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5A05-E8FC-4CDE-A1AD-E348BDA1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FA85-D801-4437-B048-D3D9E6F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96F3-8E72-426A-BE56-776BCC9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7A60-C626-48DD-B463-7DB4869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9ECD-CB58-49BA-A875-811BA83E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E2E-C069-449B-8E3A-982C1FE3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3AAA-12B3-4DF6-96E4-07E2B37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1C061-6C7A-4DE5-8595-2F15175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9BD3-9615-419C-A039-53FD07B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8BC25-50E2-4EE0-9701-CBA5CBE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6B3CE-0C48-4A71-984B-4A48D728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9BD67-DCE2-4074-A65A-1B8FF1B5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4C8F-9F04-4323-BC0E-B510893B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9D28-6A43-4753-9D32-FB09F6765AE9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BFB6-7767-4A6D-9F66-D6B396839D25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1A19-CA34-4C37-BEE3-2BAE772DD081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E6F-1B45-4AD5-867C-2C294B952521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02D-BBA8-4DA7-BCEB-1B9EB3962A82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E22-609D-4C66-8907-FB55B701EB91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14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10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18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495-55F8-4783-A33D-58879000C831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3442-F736-4A27-94D3-4092E51C014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Unit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Right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papress.com/thinkingwithtype/text/text_images/text_images/alignment_right_02.gif"/>
          <p:cNvPicPr/>
          <p:nvPr/>
        </p:nvPicPr>
        <p:blipFill>
          <a:blip r:embed="rId1"/>
          <a:stretch/>
        </p:blipFill>
        <p:spPr>
          <a:xfrm>
            <a:off x="4572000" y="1714680"/>
            <a:ext cx="4200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040" y="178452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Centre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2" descr="http://papress.com/thinkingwithtype/text/text_images/text_images/alignment_centered_02.gif"/>
          <p:cNvPicPr/>
          <p:nvPr/>
        </p:nvPicPr>
        <p:blipFill>
          <a:blip r:embed="rId1"/>
          <a:stretch/>
        </p:blipFill>
        <p:spPr>
          <a:xfrm>
            <a:off x="4000680" y="1500120"/>
            <a:ext cx="4870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040" y="178452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Full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6" name="Picture 2" descr="http://papress.com/thinkingwithtype/text/text_images/text_images/alignment_justified_02.gif"/>
          <p:cNvPicPr/>
          <p:nvPr/>
        </p:nvPicPr>
        <p:blipFill>
          <a:blip r:embed="rId1"/>
          <a:stretch/>
        </p:blipFill>
        <p:spPr>
          <a:xfrm>
            <a:off x="3857760" y="1500120"/>
            <a:ext cx="461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Choose by clicking the appropriate ic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5429160" y="2643120"/>
            <a:ext cx="2571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606600"/>
            <a:ext cx="77738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aragraph Format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38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rbel"/>
              </a:rPr>
              <a:t>Indent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spcBef>
                <a:spcPts val="601"/>
              </a:spcBef>
              <a:buClr>
                <a:srgbClr val="2c1102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ffffff"/>
                </a:solidFill>
                <a:latin typeface="Corbel"/>
              </a:rPr>
              <a:t>Left:</a:t>
            </a:r>
            <a:r>
              <a:rPr b="0" lang="en-CA" sz="2200" spc="-1" strike="noStrike">
                <a:solidFill>
                  <a:srgbClr val="ffffff"/>
                </a:solidFill>
                <a:latin typeface="Corbel"/>
              </a:rPr>
              <a:t> indents the entire paragraph from the left-hand sid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spcBef>
                <a:spcPts val="601"/>
              </a:spcBef>
              <a:buClr>
                <a:srgbClr val="2c1102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ffffff"/>
                </a:solidFill>
                <a:latin typeface="Corbel"/>
              </a:rPr>
              <a:t>Right:</a:t>
            </a:r>
            <a:r>
              <a:rPr b="0" lang="en-CA" sz="2200" spc="-1" strike="noStrike">
                <a:solidFill>
                  <a:srgbClr val="ffffff"/>
                </a:solidFill>
                <a:latin typeface="Corbel"/>
              </a:rPr>
              <a:t> indents the entire paragraph from the right-hand sid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spcBef>
                <a:spcPts val="601"/>
              </a:spcBef>
              <a:buClr>
                <a:srgbClr val="2c1102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ffffff"/>
                </a:solidFill>
                <a:latin typeface="Corbel"/>
              </a:rPr>
              <a:t>Special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CA" sz="2000" spc="-1" strike="noStrike">
                <a:solidFill>
                  <a:srgbClr val="ffffff"/>
                </a:solidFill>
                <a:latin typeface="Corbel"/>
              </a:rPr>
              <a:t>First Line: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 indents only the first line of each paragraph from the left-hand si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CA" sz="2000" spc="-1" strike="noStrike">
                <a:solidFill>
                  <a:srgbClr val="ffffff"/>
                </a:solidFill>
                <a:latin typeface="Corbel"/>
              </a:rPr>
              <a:t>Hanging: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 does not indent the first line but indents every other line from the left-hand sid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606600"/>
            <a:ext cx="77738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sert a Hyperlin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When text is a hyperlink, it appears blue, bold, and underline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Corbel"/>
              </a:rPr>
              <a:t>Right-click</a:t>
            </a: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 on the link or hold the </a:t>
            </a:r>
            <a:r>
              <a:rPr b="1" lang="en-CA" sz="3000" spc="-1" strike="noStrike">
                <a:solidFill>
                  <a:srgbClr val="ffffff"/>
                </a:solidFill>
                <a:latin typeface="Corbel"/>
              </a:rPr>
              <a:t>CTRL</a:t>
            </a: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 key while </a:t>
            </a:r>
            <a:r>
              <a:rPr b="1" lang="en-CA" sz="3000" spc="-1" strike="noStrike">
                <a:solidFill>
                  <a:srgbClr val="ffffff"/>
                </a:solidFill>
                <a:latin typeface="Corbel"/>
              </a:rPr>
              <a:t>Left-Clicking</a:t>
            </a: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 to access the website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To create a hyperlink, select the text, right-click on it, and click on character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Enter the Hyperlink under the Hyperlink Ta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yperlin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971640" y="1844640"/>
          <a:ext cx="7488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7488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c1eeff"/>
                </a:solidFill>
                <a:latin typeface="Consolas"/>
              </a:rPr>
              <a:t>Word-Processing Software Uses</a:t>
            </a:r>
            <a:endParaRPr b="0" lang="en-US" sz="3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Input, Process, Save, Edit and Revise written communic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Produce professionally formatted docu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Picture 2" descr="http://www.apps4rent.com/images/ikat_documentXsmall.jpg"/>
          <p:cNvPicPr/>
          <p:nvPr/>
        </p:nvPicPr>
        <p:blipFill>
          <a:blip r:embed="rId1"/>
          <a:stretch/>
        </p:blipFill>
        <p:spPr>
          <a:xfrm>
            <a:off x="4643280" y="3571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WP Progra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Microsoft Wor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Open Office Writer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Corel Word Perfec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iWork for Mac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5" name="Picture 2" descr="http://www.mswordhelp.com/wp-content/uploads/2011/04/word-logo.png"/>
          <p:cNvPicPr/>
          <p:nvPr/>
        </p:nvPicPr>
        <p:blipFill>
          <a:blip r:embed="rId1"/>
          <a:stretch/>
        </p:blipFill>
        <p:spPr>
          <a:xfrm>
            <a:off x="6429240" y="28584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t1.gstatic.com/images?q=tbn:ANd9GcSTHhc_QBmNXZ2Lby__2dbp-covxsXeA4WJ7-kfdLKLIMP8Yr7DynHrYez7"/>
          <p:cNvPicPr/>
          <p:nvPr/>
        </p:nvPicPr>
        <p:blipFill>
          <a:blip r:embed="rId2"/>
          <a:stretch/>
        </p:blipFill>
        <p:spPr>
          <a:xfrm>
            <a:off x="6500880" y="2286000"/>
            <a:ext cx="2143080" cy="1319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www.ijailbreak.com/wp-content/uploads/2012/07/iWork-12-Coming-Soon.jpg"/>
          <p:cNvPicPr/>
          <p:nvPr/>
        </p:nvPicPr>
        <p:blipFill>
          <a:blip r:embed="rId3"/>
          <a:stretch/>
        </p:blipFill>
        <p:spPr>
          <a:xfrm>
            <a:off x="6500880" y="4643280"/>
            <a:ext cx="1785960" cy="1587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http://www.file-extensions.org/imgs/company-logo/28/corel-corporation.png"/>
          <p:cNvPicPr/>
          <p:nvPr/>
        </p:nvPicPr>
        <p:blipFill>
          <a:blip r:embed="rId4"/>
          <a:stretch/>
        </p:blipFill>
        <p:spPr>
          <a:xfrm>
            <a:off x="6500880" y="30718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Page Sizes/Ori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288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Two common paper sizes used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Letter – 8 ½ inches x 11 inche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Legal – 8 ½ inches x 14 inche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Two common types of page orientation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Portrait – longer than it is wide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Landscape – wider than it is long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Page Size/Ori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Drop Down Menu  -&gt; Format -&gt; P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508120" cy="2786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4071960" y="2500200"/>
            <a:ext cx="4681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Margins (Frame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565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White space around all sides of the docu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Default settings for margi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02720" indent="-2714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3 Reaso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Unprofessional  look– would fill the whole pag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Binding the docu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Printers are unable to print in that space (1.3 cm minimu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7" name="Picture 4" descr="Default layout inserts margins"/>
          <p:cNvPicPr/>
          <p:nvPr/>
        </p:nvPicPr>
        <p:blipFill>
          <a:blip r:embed="rId1"/>
          <a:stretch/>
        </p:blipFill>
        <p:spPr>
          <a:xfrm>
            <a:off x="6500880" y="185724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Margi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Drop Down Menu  -&gt; Format -&gt; P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508120" cy="2786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4000680" y="2643120"/>
            <a:ext cx="4330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MARGI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Margins can also be adjusted by manually dragging the grey area at the top of the page.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4" name="Picture 4" descr="Untitled-4"/>
          <p:cNvPicPr/>
          <p:nvPr/>
        </p:nvPicPr>
        <p:blipFill>
          <a:blip r:embed="rId1"/>
          <a:stretch/>
        </p:blipFill>
        <p:spPr>
          <a:xfrm>
            <a:off x="6934320" y="2057400"/>
            <a:ext cx="765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Left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2" descr="http://papress.com/thinkingwithtype/text/text_images/text_images/alignment_left_02.gif"/>
          <p:cNvPicPr/>
          <p:nvPr/>
        </p:nvPicPr>
        <p:blipFill>
          <a:blip r:embed="rId1"/>
          <a:stretch/>
        </p:blipFill>
        <p:spPr>
          <a:xfrm>
            <a:off x="4214880" y="1571760"/>
            <a:ext cx="461160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0:51:43Z</dcterms:created>
  <dc:creator>Mary</dc:creator>
  <dc:description/>
  <dc:language>en-US</dc:language>
  <cp:lastModifiedBy>Katherine Vlug</cp:lastModifiedBy>
  <dcterms:modified xsi:type="dcterms:W3CDTF">2015-10-13T16:22:32Z</dcterms:modified>
  <cp:revision>12</cp:revision>
  <dc:subject/>
  <dc:title>word-processing software</dc:title>
</cp:coreProperties>
</file>